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710-AEF7-4A13-A690-82A375F8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CD16-FE64-4E2C-9BB0-FBB65D9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242-D6F5-4257-9928-AB592743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7AA-9F05-4114-9CB4-C9643C31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B75-A33F-484C-9F9D-33A8029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523-17E6-4C2F-A4B3-0679E3C9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83A-0A03-4158-8476-15ECA0CA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645-3B2A-4393-8AA4-27AC102E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512-55B3-4CAA-A019-AA6847AA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D58-0210-4B90-9191-5342DEE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357-0CCF-4F71-A037-8BDA515D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1E7-F876-4DBF-A553-23C2D05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29DC-28D6-4F8F-BAAC-98174D8EF2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6" descr="Gandalf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6" descr="Piramides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ramides 02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6" descr="Pythagoras_Campanas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itagoras monocordio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Selknam chico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ioses Hindues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or qué es importante esto?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que juega un rol primordial en las religiones, queda sujeta también a qué tipo de religión o creencia o filosofía está imperan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6" descr="dioses Hindues"/>
          <p:cNvPicPr/>
          <p:nvPr/>
        </p:nvPicPr>
        <p:blipFill>
          <a:blip r:embed="rId1"/>
          <a:stretch/>
        </p:blipFill>
        <p:spPr>
          <a:xfrm>
            <a:off x="5572080" y="20001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6" descr="Columnas griegas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recia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grecia de noch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Picture 8" descr="Pythagoras_6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3:23:32Z</dcterms:modified>
  <cp:revision>30</cp:revision>
  <dc:subject/>
  <dc:title>Taller de Ciencias en la Música </dc:title>
</cp:coreProperties>
</file>